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5B5-2D13-44C2-B5E8-4A14FE76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875-C8E9-4747-B89A-256DE671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D3B21-DBAA-4531-AD57-E6511BB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4C987-6DE1-45B6-8E4A-0A3CE532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7CC5F-4E09-46A1-B52B-8A6C4033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64A6C-6546-466A-AC1E-5B3D81D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EAA9-2249-4E43-B9D6-6066B87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E6C12-3CA2-4470-9B55-4997157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ACABA-2688-48E9-81BA-79BE11AF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F7A43-9CA7-4364-B034-93DF5252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C1BF8-FDB9-4299-A5A1-4ED11661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A3A3F-0C80-4091-B8B5-B3CE9DCC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6C0-C481-43B4-8E02-5BEAB8ED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E2B738-2B98-41AB-9E66-3C8CD98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0760F2-E0D1-47A7-8A17-FCF453F7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8077E2-76A0-4089-9B8D-479DC01F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5FA3E-B823-4C63-AFA4-01A6B49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BA728-2F08-49BB-A26E-3A471F7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158F24-621D-473D-8C33-7FBE85B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0483C-8B59-457A-83B1-0AAAB03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7ECBF-D0A3-44D9-A1B0-CB34DDA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38B8E-AED0-4F59-B1D7-FD4D59D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846511-F0B0-4FD6-980B-B3D4112A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438-7600-4A88-84D7-2CBF6406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BB261A-71EC-4C60-B23C-2C0182BC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5C119-DAB6-4FEC-A7F1-0CE1E46A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96B8D-5412-45A1-90D5-126E3B3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3AC7-9374-4D93-A57C-7EBB0C8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55BF2-30AC-43E8-95DE-B70FCE4D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5D04-BB36-4333-8B9D-1089E75E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387F-C6FA-4ADC-8E0A-3EE2F413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A8689-F2AB-4734-A3BE-329FC5E3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6EE7-F28F-4D89-8156-6B21EBB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12F3-2D29-4679-8209-1826398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5ECE-5C6D-4939-8AD6-FC4BAFF9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D0EA3-B560-4B81-AD17-D454872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CCA5D-1F57-4991-9A7D-FB74928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C3FE8-1D46-4287-8D94-95EAE21B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06584-E0AC-4550-B838-5C5F5A28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380F0-693B-42BA-AA6C-C431C71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3436D-271F-4786-9D3E-3A87E1A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A5EFB-10F6-48D0-936E-2803770D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DB6A6-D160-4BC1-A418-4A58BCA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9A6DE-4A24-4DE0-A04B-05C01AAA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9FBA5-EFE6-49AC-80C6-C2DA301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EBCB-F407-4E97-A469-E9FD4AB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9C200-1610-4BEE-963D-FB38D17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015D3-8338-48B1-A439-DE89FAB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A07E0-F306-421C-A60B-2D908357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368FF-9DA7-4E96-9065-B47F74A0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F78FF-9041-404A-8BBB-8B8CEA94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C5837-6AB6-4564-A6F6-8E7AF375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D0C1C4-0DA3-4817-B201-1F9611F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A03D85-F7AF-4C4B-A88F-082B0D6F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40ACDB-4C0D-4336-9333-37BE98BF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64CBE2-8D03-473F-9C9A-2F4FDC1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AAB4-FFC2-4924-8052-0C650BC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EDA441-19C0-45AD-B052-4F10858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21C185-E0F3-4517-B5EE-6C7ECDA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D3032C-A5E0-498A-B6E4-7780D1A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65B204-94B3-4FB4-9F35-A8D99AF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51BF24-9A92-4C7D-BF00-9F106B6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625F21-17C1-4144-9757-D17D1A10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47095C-3C51-4959-8514-03EE9121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65B99-A20E-4AF8-ACB8-E87E3818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FBEDB-5CD2-44B1-9AA4-492AEE6B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09E96-2EA9-4EED-BC42-B68547B5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2A2A-42AA-4E84-B1D4-6A1A4996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EEEEF-80EF-44D1-83AB-C2138B5C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04208-1FD5-4D93-85B9-89F506B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FEB65-498D-47F3-90E2-2351109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3A737-BF23-4C56-9ED5-83F84C6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E4000-9F9D-49CE-8823-EB703F0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41C91-D7C4-4CE0-8558-63B6053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3F0F5-F85A-4473-83C3-812BD2F0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A97BD-47E7-4B61-B0CC-05B807C2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B8564-1B5E-4DA3-B5A2-E1F273EA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1FF9-FEB8-45DA-8613-19A9004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B08B-1DBB-4432-B8DC-28BD696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E2D5-3407-4B47-A67C-86C31C7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86A-D591-4E48-BADC-EBD1302F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0217-8BF1-40CD-A967-ABD89C6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0B67-6D70-45A0-87D4-9BC4653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DB69-2837-4FE7-A8D9-62D0A7EC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B8A9-E776-4791-A5F0-0D3DB523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BDB1-2671-413C-97EC-12FD6FF8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FAC3-66BB-402B-8D2D-24964AD6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30D3-49BF-44BD-8BFF-EB043326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3E69-38AF-4DC2-BA7B-32D66520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24C9-F981-4B4B-BF46-A22F1BBD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1E30-D9A5-4B0F-930B-66538AD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014-5288-4606-BA73-7771CA5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5DAF4-A27D-4D4B-9086-02AEB28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B71C-1AE0-4104-97EE-06F672E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AD14-E63B-4429-A088-AB8E7F9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C9B6-EE64-4C31-896C-D944A67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5DA2-6850-4E0E-B900-BFB08275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19CA-EADA-4318-B705-8ED8739A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B1BA-BD60-475B-BB3B-80B84AFF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A19F-6126-4D4C-BF09-978E01DD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3397-9A72-4807-916A-4D24DC7C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9E1C-EB63-4FFE-82FC-698525EE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B03-22BB-4F04-9C95-AACC2B40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1198-8E29-404B-900D-A800D95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9777-4167-407D-985F-094FDF22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0011-11D8-4562-9FC9-363D3256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6F66-0E04-4A02-8A63-3EE17070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AFA6-4F3A-4B1F-B3F1-31E1718F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0C19-11EC-4D9E-9DCD-74DB087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2FD7-9ABF-4BD0-A518-BFE8A03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98DA-27EF-436B-94E1-8C75A8E5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34D9-6B59-4096-B63A-D39653BB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463A-81C3-45C5-BDA2-D25F2BB6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51A-9ACE-401A-9F72-C7707EF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CCA7-C803-40CD-BDB4-AD7BAD86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AFA6-18E5-46C8-B25D-99375C82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927C-9619-4D9D-B2BA-C5106BD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4E1E-0588-4A7E-8D05-78A27C4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9E76-410F-4054-A25E-50BE8E9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6F34-1DCE-478E-99EB-3D7CC01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746C-1565-405A-8CD8-270299DD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6813-F6EB-436C-ADFE-9C7E9A3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FB18-7E9F-4322-AB7B-BD5B754A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B1C99-F260-4FE1-8EBD-B535F16B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242-3B2A-4917-87D9-EA42EE3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6A459-9218-4E67-82A7-BBF0633B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1BDA1-B630-437C-AAA7-F9568C96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F105-78E8-4B33-86EE-EAE95516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8076-5674-4C4C-9DCE-EF5CF25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6D88-D87D-437F-B60B-E6C0EDD2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230D-B5E0-4BD4-AB0D-3E0574F3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97C9-816D-4AA4-8492-FA716407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23AA-6765-4F24-8F3A-0EFF2F6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6CB1-54F8-467D-A115-E9F2B5DC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50AB-3DBD-4986-A6B7-461ABEE0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524-73FC-4CA6-96DE-8AFC660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F85D6-2937-4F08-80DF-BE7561A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D3586-3CE2-4F8B-910A-FBBD6383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07C5-EF76-46CB-8DD1-D0A41BCC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2ECD-86B2-468F-A08A-79E8D8B9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EF3B-6158-4803-9009-E948B1E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5925-DCCA-4B89-AB73-DB59866F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59C5-D262-458C-843A-8609E81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45A87-3250-4FB0-A2EA-47754441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1328-DF32-45FC-B120-32044CD2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27F8-A1AB-46A4-A9A5-D4E5E51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C55-BB07-474A-9E5F-5DE0978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AB8B6-898E-41C2-B945-B872B8A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1BA81-1D9B-472F-B4B0-C2B0BA5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87B2-3CD6-43D3-BAD5-478F573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D07AF-7BE8-474A-9651-DF0E1F81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BA1F-E42D-4844-B211-EB17DD63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DC4D0-CA54-4EFD-9007-BF65118C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F131DC-4E0A-4B3C-AB8A-F823D68D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7A568-A0AA-49CD-A2D9-EE5F999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A3B36-FD8F-49E7-9661-D3FDDE06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2410C-E9AB-4049-B49C-49B6639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03F-EADB-4CA4-94AF-D7C6CB8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77D10-0570-4C51-9379-DD1BC4C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076CC-1C5F-4655-B2CD-104A5B1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02884-05C9-4277-910F-A563FC5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863B5-96A9-4FE9-BF81-8E3C084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69D9C-7FF1-4285-9F71-F3D053BC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5BCBB-6954-490D-BD20-5E18A800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76DAE-8E11-43B0-9566-4D87422D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C51FF-C984-4E47-A3B0-0C70D277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57A7E-C8AF-405B-8162-5F0230C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F116E-0D54-4F00-8384-F021CBC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351-C861-4A94-88A5-A775C381C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C3F3-78C7-4E30-BECC-923047B92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684-4C58-469E-BE40-54C828A9A7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616-F959-4B0F-B7C1-31059C2D34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6332-8C19-4236-B3D0-2BB449DF3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684-1D09-4EF0-B950-D5C760267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A63F-B163-4031-8261-4617173C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FBB5-E047-4E1D-9816-A9C35E9119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6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DC39-5CC2-40A7-A988-B1F535AAE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CCC-4168-45A7-B10E-FA555F681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96E-A2D0-49F5-B509-32EEB1F361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ED58-0419-470F-8805-D952E4848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550-50A6-4CB9-90DF-80DE71BBE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657-4C30-44E9-950C-EFC49A66B0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enc/nauka_i_tehnika/himiya/ZAGRYAZNENIE_OKRUZHAYUSHCHE_SREDI.html" TargetMode="External"/><Relationship Id="rId2" Type="http://schemas.openxmlformats.org/officeDocument/2006/relationships/hyperlink" Target="http://www.krugosvet.ru/enc/nauka_i_tehnika/himiya/ZAGRYAZNENIE_OKRUZHAYUSHCHE_SREDI.html" TargetMode="External"/><Relationship Id="rId3" Type="http://schemas.openxmlformats.org/officeDocument/2006/relationships/hyperlink" Target="http://www.krugosvet.ru/enc/nauka_i_tehnika/himiya/ZAGRYAZNENIE_OKRUZHAYUSHCHE_SREDI.html" TargetMode="External"/><Relationship Id="rId4" Type="http://schemas.openxmlformats.org/officeDocument/2006/relationships/hyperlink" Target="http://www.krugosvet.ru/enc/nauka_i_tehnika/himiya/ZAGRYAZNENIE_OKRUZHAYUSHCHE_SREDI.html" TargetMode="External"/><Relationship Id="rId5" Type="http://schemas.openxmlformats.org/officeDocument/2006/relationships/hyperlink" Target="http://www.krugosvet.ru/enc/nauka_i_tehnika/himiya/ZAGRYAZNENIE_OKRUZHAYUSHCHE_SREDI.html" TargetMode="External"/><Relationship Id="rId6" Type="http://schemas.openxmlformats.org/officeDocument/2006/relationships/hyperlink" Target="http://www.krugosvet.ru/enc/nauka_i_tehnika/himiya/ZAGRYAZNENIE_OKRUZHAYUSHCHE_SREDI.html" TargetMode="External"/><Relationship Id="rId7" Type="http://schemas.openxmlformats.org/officeDocument/2006/relationships/hyperlink" Target="http://www.krugosvet.ru/enc/nauka_i_tehnika/himiya/ZAGRYAZNENIE_OKRUZHAYUSHCHE_SREDI.html" TargetMode="External"/><Relationship Id="rId8" Type="http://schemas.openxmlformats.org/officeDocument/2006/relationships/hyperlink" Target="http://www.krugosvet.ru/enc/nauka_i_tehnika/himiya/ZAGRYAZNENIE_OKRUZHAYUSHCHE_SREDI.html" TargetMode="External"/><Relationship Id="rId9" Type="http://schemas.openxmlformats.org/officeDocument/2006/relationships/hyperlink" Target="http://www.krugosvet.ru/enc/nauka_i_tehnika/himiya/ZAGRYAZNENIE_OKRUZHAYUSHCHE_SREDI.html" TargetMode="External"/><Relationship Id="rId10" Type="http://schemas.openxmlformats.org/officeDocument/2006/relationships/hyperlink" Target="http://www.krugosvet.ru/enc/nauka_i_tehnika/himiya/ZAGRYAZNENIE_OKRUZHAYUSHCHE_SREDI.html" TargetMode="External"/><Relationship Id="rId11" Type="http://schemas.openxmlformats.org/officeDocument/2006/relationships/hyperlink" Target="http://www.krugosvet.ru/enc/nauka_i_tehnika/himiya/ZAGRYAZNENIE_OKRUZHAYUSHCHE_SREDI.html" TargetMode="External"/><Relationship Id="rId1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10199"/>
                </a:solidFill>
                <a:latin typeface="Monotype Corsiva"/>
              </a:rPr>
              <a:t>Как изменяется влажность  и температурный режим в  рабочих помещениях и как защититься от их неблагоприятного воздейств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ков Серг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 10 «а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ыктывк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нашего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Monotype Corsiva"/>
              </a:rPr>
              <a:t>Выяснить причины изменения влажности и температурного режима в рабочих помещения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дачи нашего исследов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америть температуру в помещени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авнить с температурой, которая предписана в правилах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ссмотреть меры борьбы с неблагоприятным воздействием этих температур на организм челове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ормы температур для рабочего поме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2741760"/>
                <a:gridCol w="2742480"/>
                <a:gridCol w="2741760"/>
              </a:tblGrid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ериод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птимальн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опустим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лодный период(среднесуточная температура наружного воздуха +10гр С, и ниж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6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4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3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плый период( от +10градусов и выш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 18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5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до 28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рафик соотношения относительной влажности и самочувствия гражд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1693800" y="2722680"/>
            <a:ext cx="56912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висимость основных факторов, влияющих на здоровье и самочувствие люде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755640" y="2085840"/>
            <a:ext cx="72644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Относительная влажность воздуха - важный экологический показатель среды. При слишком низкой или слишком высокой влажности наблюдается быстрая утомляемость человека, ухудшение восприятия и памяти. Продукты питания, строительные материалы и даже многие электронные компоненты допускается хранить в строго определённом диапазоне относительной влажности воздуха. Многие технологические процессы возможны только при строгом контроле содержания паров воды в воздухе производственного поме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krugosvet.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en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nauka_i_tehnik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himiy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ZAGRYAZNENIE_OKRUZHAYUSHCHE_SREDI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slovari.yandex.ru/dict/krugosvet/article/6/68/1011616.ht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ru.wikipedia.org/wiki/%D0%AD%D0%BD%D0%B2%D0%B0%D0%B9%D1%80%D0%BE%D0%BD%D0%BC%D0%B5%D0%BD%D1%82%D0%BE%D0%BB%D0%BE%D0%B3%D0%B8%D1%8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02:22Z</dcterms:created>
  <dc:creator>User</dc:creator>
  <dc:description/>
  <dc:language>en-US</dc:language>
  <cp:lastModifiedBy>User</cp:lastModifiedBy>
  <dcterms:modified xsi:type="dcterms:W3CDTF">2009-11-21T14:25:45Z</dcterms:modified>
  <cp:revision>4</cp:revision>
  <dc:subject/>
  <dc:title>Как изменяется влажность  и температурный режим в  рабочих помещениях и как защититься от их неблагополучного воздействия?</dc:title>
</cp:coreProperties>
</file>